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8.gif" ContentType="image/gif"/>
  <Override PartName="/ppt/media/image12.jpeg" ContentType="image/jpeg"/>
  <Override PartName="/ppt/media/image17.gif" ContentType="image/gif"/>
  <Override PartName="/ppt/media/image3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wmf" ContentType="image/x-wmf"/>
  <Override PartName="/ppt/media/image7.jpeg" ContentType="image/jpeg"/>
  <Override PartName="/ppt/media/image15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8BCC-652C-41AD-AD2D-9C59B765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FAE-33A1-4FE1-BFD3-2B15F4D9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46BE90-74F1-4379-BACD-3569E4F9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44311A-5033-4638-8F00-B9F39D1B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1A4F10-CC0F-44AB-A1D8-25135585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DB48A4-CCFB-46E3-B058-1E7F9FD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F72B45-0887-4B6D-B068-185088DD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FC80E5-DC8A-4B6E-B963-6036F146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0A4B7E-B651-4C12-8E00-26FB15C3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753A16-B435-4307-89B9-A8F46A06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B738C5-9D5B-4CC2-B910-9852CBB8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7BF571-08F1-4FA1-870C-6761FD3D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4B1-9384-466B-8ED5-F4853AA9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2DEA11-015A-46FF-8AE5-614B0474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573302-FDE8-4BC3-9665-05075E4E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234DFA-8C2A-4670-A2B7-40A88D5B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772A2D-FBCB-4436-B42A-473AFC4C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575A59-FBE1-4397-9FF3-2C014EEB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E41481-2991-4E79-9D4F-575FC150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D36257-607B-459E-BEE6-8964A1D5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748378-83E4-4AFF-A749-8A3818C2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921B29-BE29-44B5-A1EA-7D8B1858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2421D9-40B7-4396-80BC-D114689B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E06-8820-4081-B912-7F82737D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278A2E-0E79-45DE-B7D0-F534B0B3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A0826-0B13-4133-A9D1-965D2859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F5AB1-8166-4BBA-A9BE-699900A4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500C9-882B-48FA-A34A-6385E83A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09C1E-811B-490F-AC01-69F063B5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843E6-2DDE-47F2-875E-655612D6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E3924-42F9-4F72-A36A-BC2050BD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C8B5C-F256-4D35-9CF8-55401A6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CF4F4-363A-4096-B022-728E0A0F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41617-C155-466E-99E3-80C3E136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C7053-80DA-4630-9222-508C4B72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7B0F4-33DE-493F-8DA8-B2D470C9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C60D3-AAC8-4B04-A589-C1C65C46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36E5E-F34D-4966-9409-61BE4F29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4F735-E3A7-48B8-BCD8-76E42E00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0386E7-35C5-4329-82AB-7E6FF0A0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00738-FF20-4856-90FF-4A7D2FA0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E11D3-810B-46CE-9320-BA239403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543671-E159-4C41-9869-6E0C4A0F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7431B-51CF-42E7-B949-02875721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B1E7B-AF22-42E2-9AF7-3FD45385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FD382-7CD6-43F2-9351-A3B41BD8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2B07A-0BE0-42D8-9952-74A97C23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0151A-C7EA-45F7-992A-A28E6674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2DCDE-6694-44EF-9197-BCC8718D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EC261-FD2A-4F37-9E30-6D7AB3D4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7442A-BDF7-49D3-9838-D26A26CF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8213E-B9EC-44E2-AEAE-4DE69471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88784-7E87-482B-A633-CDA6B89E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AF255-FF5F-4FFE-9FC0-825FD9DC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5FC343-E216-4764-AF07-071B0ACC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062E2-8AA4-4F11-B962-E9558688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5DD-46B8-41EE-9739-3E964875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93FD2-7FCA-4A37-A345-78778D82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78E4F-32A7-42AF-8E1C-F92596B5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AC8E5-605B-4D43-9B06-8F0FDFB1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20A39-6FFF-47CD-812C-CD961D15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6B72D-6C8E-40DE-B072-7B58A05E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E05952-741F-4CD9-84BF-A91D3463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3F490-0230-4B9C-9AF9-F1C1A958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D21DE-A553-411B-A56F-B2E67673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02DFF8-2100-4D8B-A417-DCB41BBA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02AAA9-C62A-4CFE-8727-3636B53A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43F-C9FF-43B9-95DC-1EEBBC7B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0F63C-3C34-41F4-9F65-57BAF637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8CB32-7EF9-46C4-9B6A-38E3FEC7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43E416-E350-41D5-9933-AE327927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5988E-1E9A-45C3-992F-CDAEB366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FC4A4-5B04-496C-BD05-210C81D4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9C283-B66A-480D-A3D4-92B4FAC0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98F0F9-AC4B-412A-A070-77030BB0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9CB15-3E61-43F9-806A-1638F1A3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99BE83-BCFD-49FB-ACF3-DE2EC8F0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5B2DD7-1098-46CD-8FAF-76B54741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F07-8762-4082-A649-0296A48A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63F4B-29EA-4105-A416-BC64594E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CBA7A-7CC6-4D8D-AAC4-6DB06259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00798-98F0-4983-9729-62473F65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15C04-4965-4F36-83BA-2430BFE6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F8445-50C5-46DA-AB0E-C3F1C864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60AE8-CB92-4A84-9485-8D05C87D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D5B1FB-7244-466B-9E21-0D7EB4FA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2DC906-45F4-467F-A8BF-929AF85D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2E6E0-98C0-495F-9D90-E1B2C6A9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61339-827D-47A6-94CE-ACEE3E84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69A-A912-4524-8613-244C8BCA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E2F9E-659B-4F69-B001-3FA54225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186FC4-FC61-4AB9-BF39-D6321BE6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48884-4435-4E0D-85B5-B6D43C67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1511C6-5095-4E40-8588-D14B188B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26AB0-311C-4EE2-8493-4FF342BD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0211E1-34AD-4B8A-B759-6396B627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E1B95B-F504-4B69-A103-B0A93DA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941E2A-D93C-4B70-90FA-B52899B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D2D123-4048-4ED2-AC36-6EA1C0FC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60FDA-B597-4836-B6D6-31CBEE3F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F29-3FD8-492D-ABFB-CE7EBC88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0ECF4-B231-4648-AE02-DA5EB29E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063CD-BC78-4446-B69E-5BA589C8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2800F-C46B-4F79-A807-4696909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61C64B-AE6E-4EA3-A23B-AAC00D16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9429D2-A4FB-4D57-AFAF-53BCD503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772A81-185A-4FD3-886C-DACBCB6C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1076D-7062-4F4F-B9B8-D6127CC8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D679B1-0D3E-4BFC-85F8-92B27EFB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6C4B1-C346-41BD-9F60-8172291E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2FC37-FA6A-4B5D-8258-7093DD84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913-51C5-4C00-A86C-1DAF84F2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FB7222-3C28-4B49-AAAD-6A9235FB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E65525-1A6D-47AC-8EBB-6A30D8A6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C59F3-287D-446E-8425-0B5DC2A8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9D866-BFE8-4F2F-8F61-0B93447C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624F46-E306-469A-8FE0-5DBC503E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10D281-8069-4C48-BD04-6EAFFE10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161E0-9482-433F-A8B4-C84D3272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20B5E-57C6-4120-91EA-2F9E5BE2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215B7C-CAF2-4CDC-90FC-23E7FFF7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442130-0EAD-48BE-B8EE-59276A8F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B16-D61E-4560-ADF0-50E4A7F6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65336-BCE0-4264-B55A-835DE2C6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DD8960-90AA-48E3-B8CF-35F4D825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F8A9C1-5510-4905-B874-F0F62D62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15B3B-60B0-4A2C-B330-448BC309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020B4-79F9-4DA8-9754-61F0E59C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201044-BF20-447D-8078-2EEC9F37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032772-9028-4870-954F-19491188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F2EB43-B03A-46B6-9876-9B36880B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875286-0C28-4039-A15B-2E3EFB473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CDB3DA-FE48-4F41-A4B4-736196D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D4EA-9EE7-439D-B81B-2E50BC27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4CCA20-DA65-423E-8E85-30CFE031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A0874-44C8-4DB2-BC98-65C4976E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797BC3-149D-4800-8F80-3C0C01B4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F0CE96-9110-4228-918C-31EA92AB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F0853D-4B84-45BF-B73C-D5EC3D05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7F2ECB-FB14-4C0A-A51E-8E8B9C2A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0BDD93-F4F6-4D6D-AA89-A9E4DE73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DE0FE-7EF7-4CAE-9863-5F3F0967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5DA521-589D-43CA-96FA-7F6E00D4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C2C6CA-FFDB-44A9-BF92-315FC6F9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9B33-7478-4189-9D74-5AC972EA314A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99D7-AFCE-4B50-B7FA-5436B8E6BD9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BCCD-61D7-464E-92D5-BFB54D47108F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BA99-EC15-4B35-923E-C477AA241BA4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8691-A5B6-4F82-8CA3-0A1B9FCB9503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AEAE-BE14-4A49-AEB6-D2C4E0FA26E7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8EF4-EAFF-4BDB-BB60-7D269F25D424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344F-3C13-4342-BA4C-DC306E3E7217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45FB-C026-465C-A395-B4A6D4253172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4F53-45AC-47A0-A4AB-C4F2EDE708AD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9469-6779-4DF2-B037-5574680AFF39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3899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4a5a7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D8D7-19DB-43D0-92E9-65FFC82BB46B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2514240" y="61718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rbel"/>
              </a:rPr>
              <a:t>Gunter Polkinghorne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-19080" y="457200"/>
            <a:ext cx="80535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bin geklettert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1" name="Picture 5" descr="ANd9GcTnZnyIoapWxJBbue6SxFeRerbTZSa2g3DmCLXNBi--V9_l_fBwsA"/>
          <p:cNvPicPr/>
          <p:nvPr/>
        </p:nvPicPr>
        <p:blipFill>
          <a:blip r:embed="rId1"/>
          <a:stretch/>
        </p:blipFill>
        <p:spPr>
          <a:xfrm>
            <a:off x="2887560" y="2286000"/>
            <a:ext cx="331020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Ich habe Cello gespielt mit meine Kusine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3" name="Picture 5" descr="ANd9GcTT0wY1hjZOzq_mPuobc6WVXrPTpx0lXjoqZQv_CXf35ZDUcL5HhQ"/>
          <p:cNvPicPr/>
          <p:nvPr/>
        </p:nvPicPr>
        <p:blipFill>
          <a:blip r:embed="rId1"/>
          <a:stretch/>
        </p:blipFill>
        <p:spPr>
          <a:xfrm>
            <a:off x="3276720" y="1600200"/>
            <a:ext cx="243036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bin besichtigt gegangen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5" name="Picture 5" descr="ANd9GcTsi0jca0yQVA5Yo1yU9F9m6bcNAB4p-Hknd68Lj1JIPOgG_yAyQA"/>
          <p:cNvPicPr/>
          <p:nvPr/>
        </p:nvPicPr>
        <p:blipFill>
          <a:blip r:embed="rId1"/>
          <a:stretch/>
        </p:blipFill>
        <p:spPr>
          <a:xfrm>
            <a:off x="2133720" y="1905120"/>
            <a:ext cx="4895640" cy="36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bin golf gespielen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7" name="Picture 5" descr="ANd9GcSuWruAlDs5GTjXJl7DbudTf6dGbcZlIuhRMLWccg-QtSoR-wz7"/>
          <p:cNvPicPr/>
          <p:nvPr/>
        </p:nvPicPr>
        <p:blipFill>
          <a:blip r:embed="rId1"/>
          <a:stretch/>
        </p:blipFill>
        <p:spPr>
          <a:xfrm>
            <a:off x="1600200" y="2057400"/>
            <a:ext cx="6086520" cy="3043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j0282778"/>
          <p:cNvPicPr/>
          <p:nvPr/>
        </p:nvPicPr>
        <p:blipFill>
          <a:blip r:embed="rId2"/>
          <a:stretch/>
        </p:blipFill>
        <p:spPr>
          <a:xfrm>
            <a:off x="3657600" y="3886200"/>
            <a:ext cx="380880" cy="36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Es gefallt mir gut, ist phantastich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0" name="Picture 4" descr="MP900443251[1]"/>
          <p:cNvPicPr/>
          <p:nvPr/>
        </p:nvPicPr>
        <p:blipFill>
          <a:blip r:embed="rId1"/>
          <a:stretch/>
        </p:blipFill>
        <p:spPr>
          <a:xfrm>
            <a:off x="3124080" y="1523880"/>
            <a:ext cx="31528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Du Muss gehe zum Iron Mountain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2" name="Picture 4" descr="j0336492"/>
          <p:cNvPicPr/>
          <p:nvPr/>
        </p:nvPicPr>
        <p:blipFill>
          <a:blip r:embed="rId1"/>
          <a:stretch/>
        </p:blipFill>
        <p:spPr>
          <a:xfrm>
            <a:off x="2743200" y="2133720"/>
            <a:ext cx="386244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war in meinem opas hause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3" name="Picture 1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105520" cy="43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war in Iron Mountai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AutoShape 9"/>
          <p:cNvSpPr/>
          <p:nvPr/>
        </p:nvSpPr>
        <p:spPr>
          <a:xfrm>
            <a:off x="63360" y="-27000"/>
            <a:ext cx="19242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3610080" y="2828880"/>
            <a:ext cx="19238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Picture 15" descr="street1"/>
          <p:cNvPicPr/>
          <p:nvPr/>
        </p:nvPicPr>
        <p:blipFill>
          <a:blip r:embed="rId1"/>
          <a:stretch/>
        </p:blipFill>
        <p:spPr>
          <a:xfrm>
            <a:off x="2057400" y="1981080"/>
            <a:ext cx="486252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bin angle gegangen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19" name="Picture 5" descr="ANd9GcS7JDXR-MUHVE02fK1CqSxSfVUZj891Xbm_HTgJi6xg_iizbo0bRg"/>
          <p:cNvPicPr/>
          <p:nvPr/>
        </p:nvPicPr>
        <p:blipFill>
          <a:blip r:embed="rId1"/>
          <a:stretch/>
        </p:blipFill>
        <p:spPr>
          <a:xfrm>
            <a:off x="2209680" y="1905120"/>
            <a:ext cx="5081760" cy="40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bin geschwommt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1" name="Picture 4" descr="j0231369"/>
          <p:cNvPicPr/>
          <p:nvPr/>
        </p:nvPicPr>
        <p:blipFill>
          <a:blip r:embed="rId1"/>
          <a:stretch/>
        </p:blipFill>
        <p:spPr>
          <a:xfrm>
            <a:off x="1943280" y="1981080"/>
            <a:ext cx="556560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habe pizza gegessen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3" name="Picture 5" descr="ANd9GcRX47s7BIl72XLtIDwwuwGkurEZaUCfiATrKjs711z_ltakRwn4rQ"/>
          <p:cNvPicPr/>
          <p:nvPr/>
        </p:nvPicPr>
        <p:blipFill>
          <a:blip r:embed="rId1"/>
          <a:stretch/>
        </p:blipFill>
        <p:spPr>
          <a:xfrm>
            <a:off x="2057400" y="2057400"/>
            <a:ext cx="513864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habe gearbeitet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5" name="Picture 4" descr="j0282768"/>
          <p:cNvPicPr/>
          <p:nvPr/>
        </p:nvPicPr>
        <p:blipFill>
          <a:blip r:embed="rId1"/>
          <a:stretch/>
        </p:blipFill>
        <p:spPr>
          <a:xfrm>
            <a:off x="2666880" y="1752480"/>
            <a:ext cx="40388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057400" y="456840"/>
            <a:ext cx="5029200" cy="21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habe eine party mit meine familie gehabt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7" name="Picture 4" descr="j0237339"/>
          <p:cNvPicPr/>
          <p:nvPr/>
        </p:nvPicPr>
        <p:blipFill>
          <a:blip r:embed="rId1"/>
          <a:stretch/>
        </p:blipFill>
        <p:spPr>
          <a:xfrm>
            <a:off x="2895480" y="2590920"/>
            <a:ext cx="3829320" cy="38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Ich habe Essen Gekauf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29" name="Picture 5" descr="ANd9GcSExp35JPo6j9_Kbrr0OL6aTRiBspmzCI6bxepnSOGx5aM1C5CD5A"/>
          <p:cNvPicPr/>
          <p:nvPr/>
        </p:nvPicPr>
        <p:blipFill>
          <a:blip r:embed="rId1"/>
          <a:stretch/>
        </p:blipFill>
        <p:spPr>
          <a:xfrm>
            <a:off x="2666880" y="2362320"/>
            <a:ext cx="4124520" cy="407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7:36Z</dcterms:created>
  <dc:creator>CUSD220</dc:creator>
  <dc:description/>
  <dc:language>en-US</dc:language>
  <cp:lastModifiedBy>Tucker</cp:lastModifiedBy>
  <dcterms:modified xsi:type="dcterms:W3CDTF">2011-11-17T00:54:47Z</dcterms:modified>
  <cp:revision>11</cp:revision>
  <dc:subject/>
  <dc:title>Meine Ferien</dc:title>
</cp:coreProperties>
</file>